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41932"/>
        <c:axId val="87151652"/>
      </c:barChart>
      <c:catAx>
        <c:axId val="28641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51652"/>
        <c:crosses val="autoZero"/>
        <c:auto val="1"/>
        <c:lblAlgn val="ctr"/>
        <c:lblOffset val="100"/>
        <c:noMultiLvlLbl val="0"/>
      </c:catAx>
      <c:valAx>
        <c:axId val="87151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41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225-7F59-45FE-B34B-ECD91B20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7EF-8AB4-49C5-8E38-0288820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E75-8181-4AFE-82CF-260903AF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824-7CDE-4818-B82B-6E1E0E61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492-4A97-4F6C-A023-56869050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89C-E96D-465A-A34D-29FF7198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E2F-B123-4654-8941-000E2AA2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3A0-A233-4BDB-A341-40574A48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771-EFB9-4A2D-8B21-B540D986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EFB-F8B2-4EC8-B73D-D2BE99AB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F77-2BA3-4D5C-AB3E-1483ADD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EDD-AF97-4421-B153-26384E09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0DC63-CF1E-4F11-9B4A-A41FA77A17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