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41719"/>
        <c:axId val="93097884"/>
      </c:barChart>
      <c:catAx>
        <c:axId val="81417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097884"/>
        <c:crosses val="autoZero"/>
        <c:auto val="1"/>
        <c:lblAlgn val="ctr"/>
        <c:lblOffset val="100"/>
        <c:noMultiLvlLbl val="0"/>
      </c:catAx>
      <c:valAx>
        <c:axId val="930978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417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5142-4745-446E-BBEA-501958899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F929-4FC9-44CC-AF23-722C8B364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ADBA-AFA1-468D-B37B-4164E1C9F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D2A6-0D3E-4ADF-895B-74E7AE45F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71FF-67AD-479A-BA95-10B953A26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7922-5B5A-4E03-856B-00562A272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C570-A43B-4366-B2DC-0F38EB15C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05FB-B312-4D1D-8D3A-D96FED30C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0CB9-AF75-4553-82C3-2D6314298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6BB6-8AFD-4AE0-AB2E-9C06E9B2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BE63-18CC-4011-9E39-758217A6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04F2-213F-441B-AFD6-8B675821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D61A82-79F3-453A-AEBA-8DD185D94C8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