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01199"/>
        <c:axId val="57379842"/>
      </c:barChart>
      <c:catAx>
        <c:axId val="66801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9842"/>
        <c:crosses val="autoZero"/>
        <c:auto val="1"/>
        <c:lblAlgn val="ctr"/>
        <c:lblOffset val="100"/>
        <c:noMultiLvlLbl val="0"/>
      </c:catAx>
      <c:valAx>
        <c:axId val="57379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01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CE5-E4FF-48A0-9DC6-35BFCA2B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44D-67CE-4CDB-BDFC-E6330302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B56-D2E3-4C76-9FD1-11B902C5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2BF-2B8C-4E23-9C9B-5F96EA19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16B-E2CF-45BF-BEF4-C06DAF7D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7AF-6D1D-4E63-BCCD-AEDADAE7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0C8-9235-4228-BD9A-CB1F8036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635-012C-4EA2-AFC0-0E963876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AEF-77F1-43E1-9BE6-4A58B6B8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231-FCC4-49B4-88F1-FD47058F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0C4-398E-4D04-88DF-15342BD7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D4E-0EE8-4F6D-B711-BBE4332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0A71A-EF6B-45B0-85E5-8E04C00C4E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