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46649"/>
        <c:axId val="7814457"/>
      </c:barChart>
      <c:catAx>
        <c:axId val="69946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4457"/>
        <c:crosses val="autoZero"/>
        <c:auto val="1"/>
        <c:lblAlgn val="ctr"/>
        <c:lblOffset val="100"/>
        <c:noMultiLvlLbl val="0"/>
      </c:catAx>
      <c:valAx>
        <c:axId val="7814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46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F0D-E919-4023-8B34-C032DB95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7DB-6147-4205-9E4C-0C1919A4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CBA-4B41-4E21-8331-7FA0AE62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D8C-1B4A-4D7C-B403-755AF62B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F37-4F9D-4158-8DD8-AD4002FB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685-3594-4F24-8C03-B8D32A0E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7CE8-2F2F-4E8D-88AD-32CB5C12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711-C625-4626-B01B-7A79BFDC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09E-036B-4D1C-BB7C-12352924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DBD-C59D-4652-B935-16052C25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A25-49B1-4961-A3DE-C36C2804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7E8-6883-4ADC-95FF-B3E213EC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F83F3-858B-4E86-81F6-02FEAB73CC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