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802873"/>
        <c:axId val="2085039"/>
      </c:barChart>
      <c:catAx>
        <c:axId val="308028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5039"/>
        <c:crosses val="autoZero"/>
        <c:auto val="1"/>
        <c:lblAlgn val="ctr"/>
        <c:lblOffset val="100"/>
        <c:noMultiLvlLbl val="0"/>
      </c:catAx>
      <c:valAx>
        <c:axId val="20850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028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8F99-66C3-4B0E-8F26-92DB1273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BE71-7391-445E-8EB1-23D313B0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26F4-4A90-4CBE-835B-C8D29768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C8B3-B121-4BAD-8CE8-6A47EB42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04F0-C2A9-4D75-BED3-6A707069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D6D9-067C-4465-BD94-F152E9E8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DAC0-6B2D-4C58-814B-442B7AD6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FB4D-3A5C-465E-9731-4B8EF2A4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E123-C8B9-47B6-9CF9-5EB7D943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642C-08C1-4855-9C6C-BC2297FC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07DE-DB02-4A81-A1B5-7ADEB5D8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7084-0E29-4B68-9C51-C7A28C0A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5123E-8C9B-44FE-A339-35CA54E066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