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81839"/>
        <c:axId val="38003903"/>
      </c:barChart>
      <c:catAx>
        <c:axId val="16181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03903"/>
        <c:crosses val="autoZero"/>
        <c:auto val="1"/>
        <c:lblAlgn val="ctr"/>
        <c:lblOffset val="100"/>
        <c:noMultiLvlLbl val="0"/>
      </c:catAx>
      <c:valAx>
        <c:axId val="38003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81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61A-D1B6-4C79-9BD1-7EDEE06C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CD4-A225-47BD-BA83-537272B2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A4E-C76B-4EB9-865B-B7B04509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58E-19D5-4649-AF0E-7972988F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8E3-CEE9-46E7-BBA7-0D7642AB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524-DB44-45A4-AF7F-0A308BE2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D05-8521-48BE-B854-79926A5D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3CC-9AC0-45E0-A4E6-3B2A976E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5D1-779C-4643-B416-6D07D2D4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EE7-C886-4107-AFC8-1E67D1B0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1A3-5A07-45CA-A619-BD5C5188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E69-ABC4-49FC-BDBC-AA5B68C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73F51-4E5A-4A8B-B7F9-E62428DC8C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