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77990"/>
        <c:axId val="33930488"/>
      </c:barChart>
      <c:catAx>
        <c:axId val="62779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930488"/>
        <c:crosses val="autoZero"/>
        <c:auto val="1"/>
        <c:lblAlgn val="ctr"/>
        <c:lblOffset val="100"/>
        <c:noMultiLvlLbl val="0"/>
      </c:catAx>
      <c:valAx>
        <c:axId val="339304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779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03E7-B47A-4E43-916E-AB8748C1D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3891-279D-442A-AD15-78FE85DF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D752-6261-45F5-8B71-3E9FDA0DB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506A-D9A6-440E-AAD4-F27AF015A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A19C-D2B7-4E9C-9DED-EFC92C1F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7FB6-785A-4FEB-AFB3-2DC55B40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1E73-AC2C-4D2D-A3D3-43922D09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D62A-91E7-48F2-84D3-036EA4E8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FFE3-A6B9-43B2-BFC1-B0188C21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2EC9-E272-452B-9A97-C4161D08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FA93-3C24-4EE2-8B13-DEEA33DA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8EC3-BCB9-4A0F-8F63-6639A46A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9EDB9-8EE2-4903-8E92-4499883BE3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