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5471"/>
        <c:axId val="92494407"/>
      </c:barChart>
      <c:catAx>
        <c:axId val="55705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94407"/>
        <c:crosses val="autoZero"/>
        <c:auto val="1"/>
        <c:lblAlgn val="ctr"/>
        <c:lblOffset val="100"/>
        <c:noMultiLvlLbl val="0"/>
      </c:catAx>
      <c:valAx>
        <c:axId val="92494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5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ECE-6552-43EA-90B4-1BFB8DDD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3FA-6613-4A9E-B193-8A13F96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D51-5BE1-430F-A54E-42DEB3C6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339-27FA-4F03-AA08-8D77823A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A2F-006D-4491-A389-CA937768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695-63F7-4AC8-8414-6BFE6EC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F88-4B8F-46E7-9D29-5F4AAFC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7D5-FAA8-47AC-83CE-0BA6CF1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0FE-8FFD-4143-A458-2E87562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D2A-F8DB-45C4-A99C-7E447B0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6B7-701C-4F8A-9142-9C36D4F6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601-13BD-4895-AF21-AFE41EF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45CF4-87FD-47FF-B64B-C8A4D4161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