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09499"/>
        <c:axId val="11005996"/>
      </c:barChart>
      <c:catAx>
        <c:axId val="69109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5996"/>
        <c:crosses val="autoZero"/>
        <c:auto val="1"/>
        <c:lblAlgn val="ctr"/>
        <c:lblOffset val="100"/>
        <c:noMultiLvlLbl val="0"/>
      </c:catAx>
      <c:valAx>
        <c:axId val="11005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09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C17-2C02-4C62-91AD-11F18827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1BA-7F58-449D-BACB-9F67B00B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B39-D3E4-4268-9F00-BBB6E991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FE6-301A-46B6-93E4-F60F6A90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6DD-5D11-42EC-AD79-80EF01C5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DF0-F2DD-4D4A-9113-CD45A1DF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2C5-4803-47E9-812B-6E3C9ACD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BA8-4DF4-49ED-BDC4-F37622C5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DAF-245D-4446-8F88-6F047382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844-6912-4388-B6C2-89F14D1D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E0F-9835-4E44-A38E-2F86BA3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495-607D-4473-8F66-0910F1D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93EC6-76B7-41B6-A27A-C1CFCF8717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