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772400" cy="100584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5BF3A69-10D7-4669-BFA2-E6F3C24DDE88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E4E8C40-1B17-4F7A-AEBE-C42A2F6BD22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467735-2338-49A9-83DD-38EEC685C9E1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374000"/>
            <a:ext cx="291996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DB036EE-DC8E-4285-AFB7-39D524D6D46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98250B4-9EAA-4CAA-8537-5D08177F134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DF93F9-C847-4B14-ACD2-45E609277F8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6923B6-2640-4F58-8851-23AB963C3B4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8DD7E0E-F3CC-4997-83BC-E63BAD4C222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B70355-85F1-4CAF-B00E-C4366DCCB5E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02A2470-4827-46AF-839D-3939AD1B6DE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37400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0168912-1CC9-4D76-86BE-0E50993BC3F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374000"/>
            <a:ext cx="9069480" cy="237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96864-FED6-40E4-B7BE-9190014AA84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9881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89548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628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fr-FR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723960"/>
                <a:tab algn="l" pos="1447920"/>
                <a:tab algn="l" pos="217188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F51147F-7901-40D7-A597-0CE79F0036D1}" type="slidenum">
              <a:rPr b="0" lang="fr-FR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45600"/>
            <a:ext cx="9070920" cy="1171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814040"/>
            <a:ext cx="9070920" cy="489924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fr-FR" sz="3200" spc="-1" strike="noStrike">
                <a:solidFill>
                  <a:srgbClr val="000000"/>
                </a:solidFill>
                <a:latin typeface="Arial"/>
              </a:rPr>
              <a:t>TES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6-24T19:40:17Z</dcterms:created>
  <dc:creator/>
  <dc:description/>
  <dc:language>en-US</dc:language>
  <cp:lastModifiedBy/>
  <dcterms:modified xsi:type="dcterms:W3CDTF">2009-06-24T19:40:36Z</dcterms:modified>
  <cp:revision>1</cp:revision>
  <dc:subject/>
  <dc:title/>
</cp:coreProperties>
</file>