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7772400" cy="10058400"/>
          </a:xfrm>
          <a:prstGeom prst="rect">
            <a:avLst/>
          </a:prstGeom>
          <a:solidFill>
            <a:srgbClr val="ffffff"/>
          </a:solidFill>
          <a:ln w="9360">
            <a:noFill/>
          </a:ln>
        </p:spPr>
        <p:txBody>
          <a:bodyPr lIns="90000" rIns="90000" tIns="45000" bIns="45000" anchor="ctr" anchorCtr="1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0" y="0"/>
            <a:ext cx="7772400" cy="10058400"/>
          </a:xfrm>
          <a:custGeom>
            <a:avLst/>
            <a:gdLst>
              <a:gd name="textAreaLeft" fmla="*/ 360 w 7772400"/>
              <a:gd name="textAreaRight" fmla="*/ 7772040 w 7772400"/>
              <a:gd name="textAreaTop" fmla="*/ 360 h 10058400"/>
              <a:gd name="textAreaBottom" fmla="*/ 10058040 h 10058400"/>
            </a:gdLst>
            <a:ahLst/>
            <a:rect l="textAreaLeft" t="textAreaTop" r="textAreaRight" b="textAreaBottom"/>
            <a:pathLst>
              <a:path w="21600" h="27953">
                <a:moveTo>
                  <a:pt x="4" y="0"/>
                </a:moveTo>
                <a:arcTo wR="4" hR="4" stAng="16200000" swAng="-5400000"/>
                <a:lnTo>
                  <a:pt x="0" y="27949"/>
                </a:lnTo>
                <a:arcTo wR="4" hR="4" stAng="10800000" swAng="-5400000"/>
                <a:lnTo>
                  <a:pt x="21596" y="27953"/>
                </a:lnTo>
                <a:arcTo wR="4" hR="4" stAng="5400000" swAng="-5400000"/>
                <a:lnTo>
                  <a:pt x="21600" y="4"/>
                </a:lnTo>
                <a:arcTo wR="4" hR="4" stAng="0" swAng="-5400000"/>
                <a:close/>
              </a:path>
            </a:pathLst>
          </a:cu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sldImg"/>
          </p:nvPr>
        </p:nvSpPr>
        <p:spPr>
          <a:xfrm>
            <a:off x="1371240" y="763200"/>
            <a:ext cx="5025960" cy="376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body"/>
          </p:nvPr>
        </p:nvSpPr>
        <p:spPr>
          <a:xfrm>
            <a:off x="777960" y="4776480"/>
            <a:ext cx="6215040" cy="4522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imes New Roman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hdr"/>
          </p:nvPr>
        </p:nvSpPr>
        <p:spPr>
          <a:xfrm>
            <a:off x="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head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dt" idx="4"/>
          </p:nvPr>
        </p:nvSpPr>
        <p:spPr>
          <a:xfrm>
            <a:off x="4398840" y="-3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 type="ftr" idx="5"/>
          </p:nvPr>
        </p:nvSpPr>
        <p:spPr>
          <a:xfrm>
            <a:off x="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 type="sldNum" idx="6"/>
          </p:nvPr>
        </p:nvSpPr>
        <p:spPr>
          <a:xfrm>
            <a:off x="4398840" y="9554760"/>
            <a:ext cx="3370320" cy="500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b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47609528-12D2-40C4-9A0F-F62A204692F0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"/>
          <p:cNvSpPr/>
          <p:nvPr/>
        </p:nvSpPr>
        <p:spPr>
          <a:xfrm>
            <a:off x="1371600" y="763560"/>
            <a:ext cx="5029200" cy="37720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PlaceHolder 1"/>
          <p:cNvSpPr>
            <a:spLocks noGrp="1"/>
          </p:cNvSpPr>
          <p:nvPr>
            <p:ph type="body"/>
          </p:nvPr>
        </p:nvSpPr>
        <p:spPr>
          <a:xfrm>
            <a:off x="777960" y="4776840"/>
            <a:ext cx="621648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17B975-B961-47E5-B1D9-4E6338741E3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8D559-2251-435B-AC62-3B9C40F8A79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67AA888-7A0A-4906-B49B-DE795D6D4605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160" y="17679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328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160" y="4372560"/>
            <a:ext cx="291960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F6C3A47-FBBB-45E2-8BB8-C29D816E55F9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8A182D5-650F-4A93-AC55-03389040CB8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66C286D-658E-4D58-B53A-36B103AA8200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ACC0399-8674-4392-BCEC-EE738D4F1A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E72BD56-2B96-43A6-9326-3B11CC059E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3280" y="301320"/>
            <a:ext cx="9067680" cy="5837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BA330B-448C-4317-9449-8576C4EB882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C88492-B8E9-424D-AAF2-E34D8819DBE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49800" y="43725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F9B54B3-CA7F-4335-8A5D-BA80608F27E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328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49800" y="1767960"/>
            <a:ext cx="442476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3280" y="4372560"/>
            <a:ext cx="9067680" cy="237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21E94E2-AF27-4A11-A05C-1CAABCE3DBB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3280" y="301320"/>
            <a:ext cx="9067680" cy="1258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3280" y="1767960"/>
            <a:ext cx="9067680" cy="4986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24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5920" y="6886440"/>
            <a:ext cx="2344680" cy="51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C7C7ABAD-F95D-4DD1-841E-A17C42FAD0EC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<Relationship Id="rId2" Type="http://schemas.openxmlformats.org/officeDocument/2006/relationships/notesSlide" Target="../notesSlides/notesSlide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502920" y="353880"/>
            <a:ext cx="9070920" cy="12463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4400" spc="-1" strike="noStrike">
                <a:solidFill>
                  <a:srgbClr val="000000"/>
                </a:solidFill>
                <a:latin typeface="Arial"/>
              </a:rPr>
              <a:t>UPDATED FILE</a:t>
            </a:r>
            <a:br>
              <a:rPr sz="4400"/>
            </a:b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343080"/>
                <a:tab algn="l" pos="455760"/>
                <a:tab algn="l" pos="912960"/>
                <a:tab algn="l" pos="1370160"/>
                <a:tab algn="l" pos="1827360"/>
                <a:tab algn="l" pos="2284560"/>
                <a:tab algn="l" pos="2741760"/>
                <a:tab algn="l" pos="3198960"/>
                <a:tab algn="l" pos="3656160"/>
                <a:tab algn="l" pos="4113360"/>
                <a:tab algn="l" pos="4570560"/>
                <a:tab algn="l" pos="5027760"/>
                <a:tab algn="l" pos="5484960"/>
                <a:tab algn="l" pos="5942160"/>
                <a:tab algn="l" pos="6399360"/>
                <a:tab algn="l" pos="6856560"/>
                <a:tab algn="l" pos="7313760"/>
                <a:tab algn="l" pos="7770960"/>
                <a:tab algn="l" pos="8228160"/>
                <a:tab algn="l" pos="8685360"/>
                <a:tab algn="l" pos="914256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