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91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19664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5920" y="382968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97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0880" y="1196640"/>
            <a:ext cx="26697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4560" y="1196640"/>
            <a:ext cx="26697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697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0880" y="3829680"/>
            <a:ext cx="26697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4560" y="3829680"/>
            <a:ext cx="26697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6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5920" y="1196640"/>
            <a:ext cx="4046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65560" y="44280"/>
            <a:ext cx="58435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196640"/>
            <a:ext cx="4046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6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19664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5920" y="382968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196640"/>
            <a:ext cx="4046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91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1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5560" y="44280"/>
            <a:ext cx="5843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1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8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1. ANALYSIS 1: type-checking (with type-inference)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2. State-space exploration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the program runs it goes through a sequence of program-states. Sometimes there is nondeterminism – e.g. when two work-items are ready to run and we pick one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3. ANALYSIS 2: Reachability of activity-variable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e.g. in the Wander example, it never set “Find=true”. Check by exploring the (reduced) state-space and logging which activity-variables it sets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4. ANALYSIS 3: Race-condition detection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e.g. an important message is overwritten by an unimportant one because “exclusivity” wasn’t handled. E.g. in the Wander example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2:02:37Z</dcterms:created>
  <dc:creator>Lucian Wischik</dc:creator>
  <dc:description/>
  <dc:language>en-US</dc:language>
  <cp:lastModifiedBy>Lucian Wischik</cp:lastModifiedBy>
  <dcterms:modified xsi:type="dcterms:W3CDTF">2006-03-07T17:19:42Z</dcterms:modified>
  <cp:revision>77</cp:revision>
  <dc:subject/>
  <dc:title>New directions in implementing the pi calculus</dc:title>
</cp:coreProperties>
</file>