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590088" cy="7192963"/>
  <p:notesSz cx="9590088" cy="71929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BFEA91-D7D9-42FE-AC6D-6AD2C7D585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220BE0-6F7E-4902-AF99-82C22F2AA5E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F49DB3-6106-433D-9A84-6D01CA6634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43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38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78D329-62C9-4A76-A05B-60B4AD2BED9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F6055A-D92A-48D5-BCCA-0154FDCC296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9732A4-FEA2-4104-8171-039F8E69A4C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51250-78C4-4852-A66E-B292E217CC2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BC141-B6C8-4035-8A3C-3192E0852CB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12360"/>
            <a:ext cx="777240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ts val="43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00" spc="-1" strike="sngStrike" u="sng">
              <a:solidFill>
                <a:srgbClr val="ffffff"/>
              </a:solidFill>
              <a:uFillTx/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2487E-2582-4B17-854A-6DDF5A0447F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89989A-4140-49C2-8EF2-DAED9E2BF7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38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F7196-1671-44B3-A52D-075FC13B7CE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43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38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ts val="3197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85C020-E4E5-4181-A67E-2DA9122CEC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12360"/>
            <a:ext cx="7772400" cy="113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ts val="43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Swiss"/>
              </a:rPr>
              <a:t>Click to edit the title text format</a:t>
            </a:r>
            <a:endParaRPr b="1" lang="en-US" sz="4400" spc="-1" strike="noStrike">
              <a:solidFill>
                <a:srgbClr val="ff0000"/>
              </a:solidFill>
              <a:latin typeface="Swis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4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Click to edit the outline text format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1" marL="4572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con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2" marL="9144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Third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3" marL="13716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our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4" marL="1828800" indent="228600">
              <a:lnSpc>
                <a:spcPts val="3197"/>
              </a:lnSpc>
              <a:spcBef>
                <a:spcPts val="400"/>
              </a:spcBef>
              <a:buClr>
                <a:srgbClr val="0000bf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Fif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5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ix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  <a:p>
            <a:pPr lvl="6" marL="1828800" indent="228600">
              <a:lnSpc>
                <a:spcPts val="3197"/>
              </a:lnSpc>
              <a:spcBef>
                <a:spcPts val="400"/>
              </a:spcBef>
              <a:buClr>
                <a:srgbClr val="000000"/>
              </a:buClr>
              <a:buFont typeface="Dutch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bf"/>
                </a:solidFill>
                <a:latin typeface="Swiss"/>
              </a:rPr>
              <a:t>Seventh Outline Level</a:t>
            </a:r>
            <a:endParaRPr b="0" lang="en-US" sz="3200" spc="-1" strike="noStrike">
              <a:solidFill>
                <a:srgbClr val="0000bf"/>
              </a:solidFill>
              <a:latin typeface="Swiss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-360" y="6400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731520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b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bf"/>
                </a:solidFill>
                <a:latin typeface="Arial"/>
              </a:rPr>
              <a:t>Page </a:t>
            </a:r>
            <a:fld id="{82476B11-7A8A-428A-8B0D-434D42EB0559}" type="slidenum">
              <a:rPr b="0" lang="en-US" sz="1000" spc="-1" strike="noStrike">
                <a:solidFill>
                  <a:srgbClr val="0000b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 rot="10800000">
            <a:off x="7394400" y="1987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2060640" y="1622520"/>
            <a:ext cx="3963960" cy="3963960"/>
          </a:xfrm>
          <a:custGeom>
            <a:avLst/>
            <a:gdLst/>
            <a:ahLst/>
            <a:rect l="l" t="t" r="r" b="b"/>
            <a:pathLst>
              <a:path w="2497" h="2496">
                <a:moveTo>
                  <a:pt x="0" y="0"/>
                </a:moveTo>
                <a:lnTo>
                  <a:pt x="2497" y="0"/>
                </a:lnTo>
                <a:lnTo>
                  <a:pt x="2497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419200" y="1984320"/>
            <a:ext cx="71928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 rot="10800000">
            <a:off x="2419200" y="2705040"/>
            <a:ext cx="71928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 rot="10800000">
            <a:off x="3779640" y="2674440"/>
            <a:ext cx="1801800" cy="148140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778120" y="41464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3394440" y="1265400"/>
            <a:ext cx="5724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7708680" y="112860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10800000">
            <a:off x="7034040" y="2706480"/>
            <a:ext cx="144000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rot="10800000">
            <a:off x="6675480" y="342720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780000" y="1995480"/>
            <a:ext cx="18000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43760" y="20350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778120" y="23446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502880" y="21067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0800000">
            <a:off x="4859280" y="451656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948200" y="480996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608800" y="4869000"/>
            <a:ext cx="106488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886080" y="413388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329240" y="30592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905600" y="233856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442240" y="31305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921840" y="3193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14036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221440" y="415620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2419200" y="4506840"/>
            <a:ext cx="2160720" cy="7192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102480" y="4726080"/>
            <a:ext cx="7704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ORB, RMI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68240" y="201600"/>
            <a:ext cx="458352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wo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3600" y="1725480"/>
            <a:ext cx="1015920" cy="17211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360" y="128916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 rot="10800000">
            <a:off x="549000" y="1949400"/>
            <a:ext cx="595080" cy="74448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147680" y="2146320"/>
            <a:ext cx="1236600" cy="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43960" y="211284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526400" y="19540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BF7C21-D0B8-4F9B-ABA5-990C5BC5049D}" type="slidenum">
              <a:t>1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271600" y="1693800"/>
            <a:ext cx="14432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4486320" y="1501920"/>
            <a:ext cx="2521080" cy="396216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221000" y="176832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2f2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rot="10800000">
            <a:off x="7962840" y="2482920"/>
            <a:ext cx="1441440" cy="21621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825560" y="2095560"/>
            <a:ext cx="1441440" cy="3962520"/>
          </a:xfrm>
          <a:custGeom>
            <a:avLst/>
            <a:gdLst/>
            <a:ahLst/>
            <a:rect l="l" t="t" r="r" b="b"/>
            <a:pathLst>
              <a:path w="908" h="2496">
                <a:moveTo>
                  <a:pt x="0" y="0"/>
                </a:moveTo>
                <a:lnTo>
                  <a:pt x="908" y="0"/>
                </a:lnTo>
                <a:lnTo>
                  <a:pt x="90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941640" y="2095560"/>
            <a:ext cx="2521080" cy="3962520"/>
          </a:xfrm>
          <a:custGeom>
            <a:avLst/>
            <a:gdLst/>
            <a:ahLst/>
            <a:rect l="l" t="t" r="r" b="b"/>
            <a:pathLst>
              <a:path w="1588" h="2496">
                <a:moveTo>
                  <a:pt x="0" y="0"/>
                </a:moveTo>
                <a:lnTo>
                  <a:pt x="1588" y="0"/>
                </a:lnTo>
                <a:lnTo>
                  <a:pt x="1588" y="2496"/>
                </a:lnTo>
                <a:lnTo>
                  <a:pt x="0" y="2496"/>
                </a:lnTo>
                <a:lnTo>
                  <a:pt x="0" y="0"/>
                </a:lnTo>
                <a:close/>
              </a:path>
            </a:pathLst>
          </a:custGeom>
          <a:solidFill>
            <a:srgbClr val="00ffff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185920" y="2455920"/>
            <a:ext cx="720720" cy="360360"/>
          </a:xfrm>
          <a:custGeom>
            <a:avLst/>
            <a:gdLst/>
            <a:ahLst/>
            <a:rect l="l" t="t" r="r" b="b"/>
            <a:pathLst>
              <a:path w="454" h="227">
                <a:moveTo>
                  <a:pt x="0" y="0"/>
                </a:moveTo>
                <a:lnTo>
                  <a:pt x="454" y="0"/>
                </a:lnTo>
                <a:lnTo>
                  <a:pt x="454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00ff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rot="10800000">
            <a:off x="2185920" y="3176640"/>
            <a:ext cx="720720" cy="14414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18592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300560" y="4978440"/>
            <a:ext cx="720720" cy="720720"/>
          </a:xfrm>
          <a:custGeom>
            <a:avLst/>
            <a:gdLst/>
            <a:ahLst/>
            <a:rect l="l" t="t" r="r" b="b"/>
            <a:pathLst>
              <a:path w="454" h="454">
                <a:moveTo>
                  <a:pt x="0" y="0"/>
                </a:moveTo>
                <a:lnTo>
                  <a:pt x="454" y="0"/>
                </a:lnTo>
                <a:lnTo>
                  <a:pt x="454" y="454"/>
                </a:lnTo>
                <a:lnTo>
                  <a:pt x="0" y="454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 rot="10800000">
            <a:off x="4301640" y="3135240"/>
            <a:ext cx="1800360" cy="1481040"/>
          </a:xfrm>
          <a:prstGeom prst="rect">
            <a:avLst/>
          </a:prstGeom>
          <a:solidFill>
            <a:srgbClr val="f2f2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4628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14560" y="5338800"/>
            <a:ext cx="139716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986480" y="6188040"/>
            <a:ext cx="11422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 Serv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143960" y="6210360"/>
            <a:ext cx="2149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Application/Trans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8171280" y="1863720"/>
            <a:ext cx="842040" cy="3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Datab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Ser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rot="10800000">
            <a:off x="7732800" y="3128760"/>
            <a:ext cx="1441440" cy="216036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0800000">
            <a:off x="7545240" y="3895560"/>
            <a:ext cx="1440000" cy="2160720"/>
          </a:xfrm>
          <a:prstGeom prst="rect">
            <a:avLst/>
          </a:prstGeom>
          <a:solidFill>
            <a:srgbClr val="00dede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300560" y="2455920"/>
            <a:ext cx="1801800" cy="360360"/>
          </a:xfrm>
          <a:custGeom>
            <a:avLst/>
            <a:gdLst/>
            <a:ahLst/>
            <a:rect l="l" t="t" r="r" b="b"/>
            <a:pathLst>
              <a:path w="1135" h="227">
                <a:moveTo>
                  <a:pt x="0" y="0"/>
                </a:moveTo>
                <a:lnTo>
                  <a:pt x="1135" y="0"/>
                </a:lnTo>
                <a:lnTo>
                  <a:pt x="1135" y="227"/>
                </a:lnTo>
                <a:lnTo>
                  <a:pt x="0" y="227"/>
                </a:lnTo>
                <a:lnTo>
                  <a:pt x="0" y="0"/>
                </a:lnTo>
                <a:close/>
              </a:path>
            </a:pathLst>
          </a:custGeom>
          <a:solidFill>
            <a:srgbClr val="ff7b00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310120" y="2506680"/>
            <a:ext cx="457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HTTP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546280" y="28162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230200" y="527364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7760" y="257184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W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343400" y="5272200"/>
            <a:ext cx="6163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PolyOR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rot="10800000">
            <a:off x="5381640" y="4976640"/>
            <a:ext cx="720720" cy="720720"/>
          </a:xfrm>
          <a:prstGeom prst="rect">
            <a:avLst/>
          </a:prstGeom>
          <a:solidFill>
            <a:srgbClr val="ff7b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469120" y="5272200"/>
            <a:ext cx="5220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NAD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102360" y="5338800"/>
            <a:ext cx="144144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756920" y="4602240"/>
            <a:ext cx="94572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Postge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8198280" y="3529080"/>
            <a:ext cx="61020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MySQ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8379720" y="2792520"/>
            <a:ext cx="58284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208960" y="3602160"/>
            <a:ext cx="654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(Servl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444920" y="3652920"/>
            <a:ext cx="1377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 specif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log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324600" y="4851360"/>
            <a:ext cx="448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Corb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RM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D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66092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headEnd len="lg" type="triangle" w="med"/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42000" y="4618080"/>
            <a:ext cx="0" cy="36036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593440" y="-22320"/>
            <a:ext cx="4932360" cy="4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36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bf"/>
                </a:solidFill>
                <a:latin typeface="Swiss"/>
              </a:rPr>
              <a:t>Three Tier Archite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07880" y="2217600"/>
            <a:ext cx="1016280" cy="1719360"/>
          </a:xfrm>
          <a:custGeom>
            <a:avLst/>
            <a:gdLst/>
            <a:ahLst/>
            <a:rect l="l" t="t" r="r" b="b"/>
            <a:pathLst>
              <a:path w="641" h="1083">
                <a:moveTo>
                  <a:pt x="0" y="0"/>
                </a:moveTo>
                <a:lnTo>
                  <a:pt x="641" y="0"/>
                </a:lnTo>
                <a:lnTo>
                  <a:pt x="641" y="1083"/>
                </a:lnTo>
                <a:lnTo>
                  <a:pt x="0" y="1083"/>
                </a:lnTo>
                <a:lnTo>
                  <a:pt x="0" y="0"/>
                </a:lnTo>
                <a:close/>
              </a:path>
            </a:pathLst>
          </a:custGeom>
          <a:solidFill>
            <a:srgbClr val="00dede"/>
          </a:solidFill>
          <a:ln w="0">
            <a:solidFill>
              <a:srgbClr val="00007f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53680" y="6180120"/>
            <a:ext cx="524880" cy="1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ts val="1397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bf"/>
                </a:solidFill>
                <a:latin typeface="Swiss"/>
              </a:rPr>
              <a:t>Cli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rot="10800000">
            <a:off x="593640" y="2440080"/>
            <a:ext cx="595440" cy="745920"/>
          </a:xfrm>
          <a:prstGeom prst="rect">
            <a:avLst/>
          </a:prstGeom>
          <a:solidFill>
            <a:srgbClr val="00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88600" y="2603520"/>
            <a:ext cx="5965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Brows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448640" y="243828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189080" y="2633760"/>
            <a:ext cx="968400" cy="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rot="10800000">
            <a:off x="4533480" y="758880"/>
            <a:ext cx="1359000" cy="596880"/>
          </a:xfrm>
          <a:prstGeom prst="rect">
            <a:avLst/>
          </a:prstGeom>
          <a:solidFill>
            <a:srgbClr val="ffff00"/>
          </a:solidFill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740480" y="941400"/>
            <a:ext cx="9730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bf"/>
                </a:solidFill>
                <a:latin typeface="Swiss"/>
              </a:rPr>
              <a:t>Aminist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36200" y="1560600"/>
            <a:ext cx="39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178600" y="1346040"/>
            <a:ext cx="0" cy="1103400"/>
          </a:xfrm>
          <a:prstGeom prst="line">
            <a:avLst/>
          </a:prstGeom>
          <a:ln w="0">
            <a:solidFill>
              <a:srgbClr val="00007f"/>
            </a:solidFill>
            <a:tailEnd len="lg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160680" y="4994280"/>
            <a:ext cx="1323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ODB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ts val="11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bf"/>
                </a:solidFill>
                <a:latin typeface="Swiss"/>
              </a:rPr>
              <a:t>Native Interfa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Michael Erdmann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4EDEF0-DF9C-4463-B36B-DA622F67ABCC}" type="slidenum">
              <a:t>2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7-12T18:20:28Z</dcterms:created>
  <dc:creator>erdmann</dc:creator>
  <dc:description>Created by Applixware @(#)Version: 5.0(1375) Sat Jun 24 20:02:18 2000</dc:description>
  <dc:language>en-US</dc:language>
  <cp:lastModifiedBy>5 (1375)</cp:lastModifiedBy>
  <dcterms:modified xsi:type="dcterms:W3CDTF">2002-07-24T19:55:44Z</dcterms:modified>
  <cp:revision>0</cp:revision>
  <dc:subject/>
  <dc:title>No Slide Title</dc:title>
</cp:coreProperties>
</file>