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590088" cy="7192963"/>
  <p:notesSz cx="6840538" cy="99726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3ABD78-C0A9-430E-AB09-9DC6FE686D8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CBFAF5-1848-493C-B04A-49048C6A64B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35622-A693-4AFD-A6EA-CAD017BBBA7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53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408720" y="124920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19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53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408720" y="3762720"/>
            <a:ext cx="302184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095D2-4972-4F3D-8BFA-45751E8E6DFA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D62135-23D6-4F3F-8C7B-07DE9C23CB1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152971-A78B-4747-A4AF-390E4CF44F2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7C2DAD-9A2D-4038-B904-D39F9E41412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BA2CB-F212-474A-960F-8D2686A2C9F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1160" y="80640"/>
            <a:ext cx="9385560" cy="81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4A82E-58A6-4978-89EC-558C071C77C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9C6282-ADA5-4297-9823-91ED1E7B03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1160" y="376272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DDBC95-D1D7-4D0E-97B9-F28B81EEF15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192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1160" y="1249200"/>
            <a:ext cx="457992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1920" y="3762720"/>
            <a:ext cx="9385200" cy="229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2229C-26F9-422B-9DB5-25084D9CDB1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1160" y="80640"/>
            <a:ext cx="9385560" cy="17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1920" y="1249200"/>
            <a:ext cx="9385200" cy="481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9144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13716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8288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2286000" indent="-4572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Morewingbats"/>
              <a:buChar char="l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C893E056-89EB-4E3A-B17E-4F5DDC1043B5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9080" y="6856560"/>
            <a:ext cx="9593280" cy="360"/>
          </a:xfrm>
          <a:custGeom>
            <a:avLst/>
            <a:gdLst/>
            <a:ahLst/>
            <a:rect l="l" t="t" r="r" b="b"/>
            <a:pathLst>
              <a:path w="6043" h="0">
                <a:moveTo>
                  <a:pt x="0" y="0"/>
                </a:moveTo>
                <a:lnTo>
                  <a:pt x="6043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1440" y="360360"/>
            <a:ext cx="9583920" cy="360"/>
          </a:xfrm>
          <a:custGeom>
            <a:avLst/>
            <a:gdLst/>
            <a:ahLst/>
            <a:rect l="l" t="t" r="r" b="b"/>
            <a:pathLst>
              <a:path w="6038" h="0">
                <a:moveTo>
                  <a:pt x="0" y="0"/>
                </a:moveTo>
                <a:lnTo>
                  <a:pt x="6038" y="0"/>
                </a:lnTo>
              </a:path>
            </a:pathLst>
          </a:custGeom>
          <a:solidFill>
            <a:srgbClr val="00dede"/>
          </a:solidFill>
          <a:ln w="25560">
            <a:solidFill>
              <a:srgbClr val="00007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82840" y="3571920"/>
            <a:ext cx="86371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llection and maintenance of Ada 95 interfaces to as much RDBMS product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s possibl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ovide an integrated solution for application devlopment based upon commo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tandard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426840" y="2567160"/>
            <a:ext cx="2568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Project Objectives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2120" y="749160"/>
            <a:ext cx="9236160" cy="98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 anchorCtr="1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GN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 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A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da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D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atabase </a:t>
            </a:r>
            <a:r>
              <a:rPr b="1" lang="en-US" sz="4400" spc="-1" strike="noStrike" u="sng">
                <a:solidFill>
                  <a:srgbClr val="0000bf"/>
                </a:solidFill>
                <a:uFillTx/>
                <a:latin typeface="Swiss"/>
              </a:rPr>
              <a:t>E</a:t>
            </a: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nvironmen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14B98F-FB0E-4F7A-87B3-39169CB0578B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2039040" y="2692440"/>
            <a:ext cx="561060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da Data Base Connectivity (ADBC) Model unifying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and native bindings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SQL clients (GTK, ODBC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WS/ODBC based administration client?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Datamodel Development Tools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988640" y="1071720"/>
            <a:ext cx="4641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Future Development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FD7B33-46AF-42EF-9CC9-48EFC2253EA7}" type="slidenum">
              <a:t>10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 rot="10800000">
            <a:off x="1069920" y="1777680"/>
            <a:ext cx="2209680" cy="259884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prstDash val="sysDot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 rot="10800000">
            <a:off x="3400560" y="1797840"/>
            <a:ext cx="5927760" cy="1946520"/>
          </a:xfrm>
          <a:prstGeom prst="roundRect">
            <a:avLst>
              <a:gd name="adj" fmla="val 46667"/>
            </a:avLst>
          </a:prstGeom>
          <a:blipFill rotWithShape="0">
            <a:blip r:embed="rId2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354000" y="57240"/>
            <a:ext cx="3240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 - GNAT Database Environm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1436760" y="1343160"/>
            <a:ext cx="360" cy="119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4480" rIns="114480" tIns="56520" bIns="22860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Th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9120" y="750960"/>
            <a:ext cx="49215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Generic GNADE Model 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rot="10800000">
            <a:off x="1250640" y="1976040"/>
            <a:ext cx="1801800" cy="10810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0800000">
            <a:off x="1250640" y="3417840"/>
            <a:ext cx="180180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0800000">
            <a:off x="1252080" y="4676400"/>
            <a:ext cx="1801800" cy="153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529640" y="2311560"/>
            <a:ext cx="1206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620720" y="3570120"/>
            <a:ext cx="103248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20920" y="4827600"/>
            <a:ext cx="1442520" cy="16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Relationa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men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ystem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RDBMS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125800" y="3052800"/>
            <a:ext cx="0" cy="3492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435480" y="4413240"/>
            <a:ext cx="6041880" cy="12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2) The application code used the data base interface (dbi) to excute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n SQL query. The data base interface executes the query via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ome driver  software provided by the RDBMS vendor creating som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esult set in the address space of the RDBMS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446640" y="5264280"/>
            <a:ext cx="505440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3) The application reads the records of the result set via the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BI into the address space of the application.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119320" y="4135320"/>
            <a:ext cx="0" cy="5302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32680" y="2151000"/>
            <a:ext cx="5709600" cy="238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1) DB := Connect( user =&gt; "gnade", password =&gt;-...);  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2) Result := Execute( DB, "select * from EMPLOYEES where name = 'Erdmann'"..)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3) while not End_Of(Result) loop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Fetch( Result, mode =&gt; Next )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  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.......    ............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end loop;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38720" y="3824280"/>
            <a:ext cx="55418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(1) The application authorizes it self on the RDBMS in order to g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ccess to the data managed in the data base.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17760" y="161460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DE Domain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2A9AE0-09E5-48B9-8BDC-3681B19EC674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127960" y="1996920"/>
            <a:ext cx="3210480" cy="190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Native Bindings for: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 Call Interface (OCI)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99440" y="3762360"/>
            <a:ext cx="4847040" cy="24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Binding to the ODBC 2.0 Interface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bf"/>
                </a:solidFill>
                <a:latin typeface="Swiss"/>
              </a:rPr>
              <a:t>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y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ostgreSQL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racl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MS SQL Server, MimerSQL ..........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98720" y="1017720"/>
            <a:ext cx="6689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Supported Database Interface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E7208-A836-488D-912C-89DE92CBD7DF}" type="slidenum">
              <a:t>3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"/>
          <p:cNvSpPr/>
          <p:nvPr/>
        </p:nvSpPr>
        <p:spPr>
          <a:xfrm>
            <a:off x="3101400" y="1461960"/>
            <a:ext cx="33732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41280" y="2870280"/>
            <a:ext cx="8996760" cy="20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Native bindings are Ada 95 implemenations of the vendor specific data base API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bindings normally do follow naming conventions of the vendor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 order to ensure the reusability of the vendor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GNADE does not explicitly promote the usage of native bindings in its tool chai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wiss"/>
              </a:rPr>
              <a:t>but we are collecting and maintaining the bindings as far as possible!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7DC280-229A-4A99-8C45-C2242DEFBF52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55320" y="738360"/>
            <a:ext cx="670644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 of  native Bindings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220400" y="1789200"/>
            <a:ext cx="7341840" cy="32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Optimized with respect to the vendors RDBMS (i.e. transfer of larg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LOB's)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In general a small interface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Normally good documentation by the vendor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181160" y="3732120"/>
            <a:ext cx="75247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'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Application becomes dependent on the Vendors Implement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Usage of different vendors by the same application becomes difficult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ype conversion between SQL and the Ada 95 becomes an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pplication task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F6AB73-245D-4EEC-A3BA-680627611D73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2777040" y="681120"/>
            <a:ext cx="39906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(1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rot="10800000">
            <a:off x="1080720" y="1801800"/>
            <a:ext cx="180180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0800000">
            <a:off x="1080720" y="2936520"/>
            <a:ext cx="180180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rot="10800000">
            <a:off x="1080720" y="3602160"/>
            <a:ext cx="1801800" cy="720720"/>
          </a:xfrm>
          <a:prstGeom prst="rect">
            <a:avLst/>
          </a:prstGeom>
          <a:solidFill>
            <a:srgbClr val="00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081080" y="4683240"/>
            <a:ext cx="1801800" cy="1441440"/>
          </a:xfrm>
          <a:custGeom>
            <a:avLst/>
            <a:gdLst/>
            <a:ahLst/>
            <a:rect l="l" t="t" r="r" b="b"/>
            <a:pathLst>
              <a:path w="1135" h="908">
                <a:moveTo>
                  <a:pt x="0" y="0"/>
                </a:moveTo>
                <a:lnTo>
                  <a:pt x="1135" y="0"/>
                </a:lnTo>
                <a:lnTo>
                  <a:pt x="1135" y="908"/>
                </a:lnTo>
                <a:lnTo>
                  <a:pt x="0" y="908"/>
                </a:lnTo>
                <a:lnTo>
                  <a:pt x="0" y="0"/>
                </a:lnTo>
                <a:close/>
              </a:path>
            </a:pathLst>
          </a:cu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419480" y="3029040"/>
            <a:ext cx="12747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312200" y="3889440"/>
            <a:ext cx="13143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Driver Manage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58520" y="532908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493280" y="2000160"/>
            <a:ext cx="98532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Application 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10800000">
            <a:off x="1080720" y="4682880"/>
            <a:ext cx="1801800" cy="36036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444680" y="4797360"/>
            <a:ext cx="1047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librari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967040" y="2514600"/>
            <a:ext cx="0" cy="4158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955880" y="3287880"/>
            <a:ext cx="0" cy="31248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947960" y="4316400"/>
            <a:ext cx="0" cy="37944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093120" y="2868480"/>
            <a:ext cx="57247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da 95 ODBC bindings are linked with the Drive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Manager (DM) Interface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3020400" y="3591000"/>
            <a:ext cx="6259680" cy="68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DM provides the ODBC API by translating the ODBC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primitives into operations towards the RDBMS by invok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librarie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105720" y="4672080"/>
            <a:ext cx="5831640" cy="114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exports a set of ODBC libraries which ar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used by the DM to implement the ODBC operations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RDBMS creates a result set which can be retrieved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y the application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07440" y="1792440"/>
            <a:ext cx="653112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application executes a SQL query on a data sourc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(not a database). After execution of the query the applicati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will fetch the result record by record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1669DA-FB62-4C2D-A024-832FEEDB880D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2782440" y="682560"/>
            <a:ext cx="41094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ODBC Interface  (2)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63680" y="1614600"/>
            <a:ext cx="8589960" cy="457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interface between RDBMS and Application is based on so called defered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buffers, which means together with a query addresses are passed to the ODBC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nterface which are pointing on the parameters which have to be applied for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 NAME = &lt;avalue&gt;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is translated into: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select EMPNO from EMPLOYEES where NAME = ?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and a address which is bound to the which '?' denoted parameter.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conversion between SQL data types and host data types is done in the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ODBC driver. The mapping from host variable type to Ada 95 data type is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one in the applic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fields (e.g. EMPNO) in a record of the result set are accessed by binding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deferred buffers before execution of the query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 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6E6304-F2C7-4298-870E-1C15B37C2C05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1176840" y="760320"/>
            <a:ext cx="731880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Pro &amp; Con's of the ODBC Interface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219680" y="1776240"/>
            <a:ext cx="6748920" cy="29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Pro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Widly accepted and provided by  almost all database vendors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Large code bas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use of existing document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Part of the type conversion is done in the ODBC driver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1186200" y="3951360"/>
            <a:ext cx="7354080" cy="205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Swiss"/>
              </a:rPr>
              <a:t>Cons:</a:t>
            </a:r>
            <a:r>
              <a:rPr b="0" lang="en-US" sz="2400" spc="-1" strike="noStrike">
                <a:solidFill>
                  <a:srgbClr val="ff0000"/>
                </a:solidFill>
                <a:latin typeface="Swiss"/>
              </a:rPr>
              <a:t> </a:t>
            </a: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2398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Requires a driver manager which imposes additional complexity on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  </a:t>
            </a: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the installation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bf"/>
                </a:solidFill>
                <a:latin typeface="Swiss"/>
              </a:rPr>
              <a:t>- The use of deffered buffers makes the interface quite unsafe.</a:t>
            </a: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8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FD491-6710-4138-8EC8-628DC80475F1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rot="10800000">
            <a:off x="6842160" y="1644480"/>
            <a:ext cx="1954080" cy="22212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482120" y="712800"/>
            <a:ext cx="6500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Integration of SQL into Ada 95</a:t>
            </a:r>
            <a:endParaRPr b="0" lang="en-US" sz="36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490920" y="3602160"/>
            <a:ext cx="1440" cy="360"/>
          </a:xfrm>
          <a:custGeom>
            <a:avLst/>
            <a:gdLst/>
            <a:ahLst/>
            <a:rect l="l" t="t" r="r" b="b"/>
            <a:pathLst>
              <a:path w="1" h="0">
                <a:moveTo>
                  <a:pt x="0" y="0"/>
                </a:moveTo>
                <a:lnTo>
                  <a:pt x="1" y="0"/>
                </a:lnTo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0800000">
            <a:off x="3216240" y="3241800"/>
            <a:ext cx="144144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287360" y="324648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44760" y="3384720"/>
            <a:ext cx="11268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with embedded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247560" y="3502080"/>
            <a:ext cx="1334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ESQL Translator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65480" y="4675320"/>
            <a:ext cx="1441440" cy="7189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359160" y="4946760"/>
            <a:ext cx="1012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da 95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41800" y="1987560"/>
            <a:ext cx="1441440" cy="720720"/>
          </a:xfrm>
          <a:custGeom>
            <a:avLst/>
            <a:gdLst/>
            <a:ahLst/>
            <a:rect l="l" t="t" r="r" b="b"/>
            <a:pathLst>
              <a:path w="908" h="454">
                <a:moveTo>
                  <a:pt x="227" y="0"/>
                </a:moveTo>
                <a:lnTo>
                  <a:pt x="0" y="454"/>
                </a:lnTo>
                <a:lnTo>
                  <a:pt x="681" y="454"/>
                </a:lnTo>
                <a:lnTo>
                  <a:pt x="908" y="0"/>
                </a:lnTo>
                <a:lnTo>
                  <a:pt x="227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533760" y="2254320"/>
            <a:ext cx="81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QL Sourc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0800000">
            <a:off x="5214960" y="4683240"/>
            <a:ext cx="1231920" cy="72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7460280" y="3328920"/>
            <a:ext cx="6163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RDBMS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837480" y="3936960"/>
            <a:ext cx="1965240" cy="1752480"/>
          </a:xfrm>
          <a:custGeom>
            <a:avLst/>
            <a:gdLst/>
            <a:ahLst/>
            <a:rect l="l" t="t" r="r" b="b"/>
            <a:pathLst>
              <a:path w="1238" h="1104">
                <a:moveTo>
                  <a:pt x="0" y="0"/>
                </a:moveTo>
                <a:lnTo>
                  <a:pt x="1238" y="0"/>
                </a:lnTo>
                <a:lnTo>
                  <a:pt x="1238" y="1104"/>
                </a:lnTo>
                <a:lnTo>
                  <a:pt x="0" y="1104"/>
                </a:lnTo>
                <a:lnTo>
                  <a:pt x="0" y="0"/>
                </a:lnTo>
                <a:close/>
              </a:path>
            </a:pathLst>
          </a:custGeom>
          <a:noFill/>
          <a:ln w="0">
            <a:solidFill>
              <a:srgbClr val="00007f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031160" y="1722600"/>
            <a:ext cx="1473120" cy="27288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16760" y="2666880"/>
            <a:ext cx="1473120" cy="273240"/>
          </a:xfrm>
          <a:prstGeom prst="ellipse">
            <a:avLst/>
          </a:prstGeom>
          <a:noFill/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7012080" y="1873080"/>
            <a:ext cx="0" cy="93528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8497800" y="1855800"/>
            <a:ext cx="0" cy="934920"/>
          </a:xfrm>
          <a:prstGeom prst="line">
            <a:avLst/>
          </a:prstGeom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rot="10800000">
            <a:off x="7326360" y="2052720"/>
            <a:ext cx="914400" cy="55728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7334280" y="2216160"/>
            <a:ext cx="8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 </a:t>
            </a: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Table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7059600" y="4057200"/>
            <a:ext cx="1441440" cy="3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47600" y="4943520"/>
            <a:ext cx="47916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GNA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rot="10800000">
            <a:off x="7083000" y="4657680"/>
            <a:ext cx="1398600" cy="77616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469200" y="5025960"/>
            <a:ext cx="612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7233840" y="4119480"/>
            <a:ext cx="10951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ODBC Bindings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583000" y="3608280"/>
            <a:ext cx="6318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 rot="10800000">
            <a:off x="5198760" y="2012760"/>
            <a:ext cx="1282680" cy="67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40320" y="2274840"/>
            <a:ext cx="854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bf"/>
                </a:solidFill>
                <a:latin typeface="Swiss"/>
              </a:rPr>
              <a:t>SQL Client</a:t>
            </a:r>
            <a:endParaRPr b="0" lang="en-US" sz="1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97480" y="2352600"/>
            <a:ext cx="6919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481800" y="2344680"/>
            <a:ext cx="860400" cy="79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314120" y="4853160"/>
            <a:ext cx="806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Code</a:t>
            </a:r>
            <a:endParaRPr b="0" lang="en-US" sz="1200" spc="-1" strike="noStrike">
              <a:solidFill>
                <a:srgbClr val="0000bf"/>
              </a:solidFill>
              <a:latin typeface="Times New Roman"/>
            </a:endParaRPr>
          </a:p>
          <a:p>
            <a:pPr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3962520"/>
            <a:ext cx="0" cy="72072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3952800" y="2703240"/>
            <a:ext cx="0" cy="5475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4446720" y="5025960"/>
            <a:ext cx="77472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734240" y="3600360"/>
            <a:ext cx="0" cy="4431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b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0D9FE7-E2B5-4E6E-958D-E8BA92C04D7C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3:38Z</dcterms:modified>
  <cp:revision>0</cp:revision>
  <dc:subject/>
  <dc:title>GNAT  Ada Database Environment
GNADE</dc:title>
</cp:coreProperties>
</file>